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FE3-946B-4164-BD47-15636CB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B9F-E778-4C97-A416-F91ABB53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C9E-78A2-45AE-A896-6D86F816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AE2-9D16-4300-AF2C-721E44AD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6603-C053-4F01-BEA9-685B1838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C814-1B5D-4826-8F60-F570022C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96E4-4187-4BA4-A992-16369C6C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93A-28D5-4648-87DD-5AF5CCE9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3A19-24E0-49CB-AAEC-BAD3439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E97D-8FEE-4BA0-9B0B-C419BA3A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F13-6D94-4475-AA0C-CCC01E9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13F-57C9-4090-913D-0C0FC39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8052-1E17-44EC-9E96-28C7362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AA1-35B8-4321-8D65-8E59498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C39-E774-45DB-B4CC-0C5922BB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507-30E1-4B5F-AF27-BD792212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FE74-B7DC-4294-A86D-263771AC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300-D9BD-4662-8F16-A9AE3A2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AC8-A19C-4613-A9DE-2601DD7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586-87C5-499B-AE29-2CB82205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CE-B844-4075-9A28-6804CEB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D6A-2D83-4C77-B48A-0E1F12A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386-0C61-4F63-BB87-650FB144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612-1A63-4871-808A-4139A18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EAF-EBD1-4708-9BC3-F026AA500B7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33FB-1F90-45AB-A360-18F5DD5B5FE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Violencia y sus múltiples miradas"/>
          <p:cNvPicPr/>
          <p:nvPr/>
        </p:nvPicPr>
        <p:blipFill>
          <a:blip r:embed="rId1"/>
          <a:stretch/>
        </p:blipFill>
        <p:spPr>
          <a:xfrm>
            <a:off x="380880" y="914400"/>
            <a:ext cx="5334120" cy="5078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91320" y="914400"/>
            <a:ext cx="3124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PROMOCIÓN DE LA EQUIDAD DE GÉNERO COMO EJE DE PREVENCIÓN DE LA VIOLENC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erspectivas desde la infancia violenta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876920"/>
            <a:ext cx="2438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María Elena Iglesias Lópe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CESI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Noviembre,  200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la edad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condición de dependencia en la que se encuentran los niños, niñas y adolescentes en la familia, por su condición de desarrollo, les ubica en una situación de subordin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asa lo mismo con los adultos mayores, el deterioro de sus capacidades, les ubica también en situación de subordinación respecto a otros adultos.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n nuestra sociedad la ubicación jerárquica es tomada como sinónimo de pod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660066"/>
                </a:solidFill>
                <a:latin typeface="Arial Narrow"/>
              </a:rPr>
              <a:t>En lo observable, la violencia hacia los niños, niñas y adolescentes en el ámbito familiar suele darse asociada con: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902040" cy="3106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09480" y="1676520"/>
            <a:ext cx="358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La resolución de confli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El establecimient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  </a:t>
            </a: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normas y discipli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En nuestra sociedad, los conflictos se solucionan a través de la imposición del más fuerte o del que tiene más pod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La disicplina se impone a través de la violenci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Arial Narrow"/>
              </a:rPr>
              <a:t>LA PREVENCIÓN DE LA VIOLENCIA</a:t>
            </a:r>
            <a:r>
              <a:rPr b="1" lang="es-ES_tradnl" sz="3600" spc="-1" strike="noStrike">
                <a:solidFill>
                  <a:srgbClr val="66006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s parte de la formación integral para la vida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, 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basa en una visión positiva de las rel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ntre las person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Valoración equitati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Respeto mutuo – reconocimiento del otro(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MODIFICACIONES NECESARI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Potencial de violencia en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Generación de condiciones de Buen Tra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n la 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estructura familiar horizont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Flexibilizar y reducir las 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Reformulación de lo que se entiende por obediencia y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rradicación del castigo físico y psicológico como estrategias de discipl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Cuestionamiento y erradicación de los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autonomía entre los miembros de la familia de acuerdo a la edad y capacidades crec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 Narrow"/>
              </a:rPr>
              <a:t>VIOLENCIA HACIA N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La violencia hacia los niños, niña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adolescentes se da en diferentes ámbito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tiene diferentes modalidades de expre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" descr="Violencia verbal y emocional"/>
          <p:cNvPicPr/>
          <p:nvPr/>
        </p:nvPicPr>
        <p:blipFill>
          <a:blip r:embed="rId1"/>
          <a:stretch/>
        </p:blipFill>
        <p:spPr>
          <a:xfrm>
            <a:off x="380880" y="3352680"/>
            <a:ext cx="2573280" cy="2667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57600" y="3352680"/>
            <a:ext cx="502920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s estadísticas demuestra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uno  de los ámbitos en lo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con más frecuencia ocurr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ctos de violencia hacia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fancia y adolescencia, es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famil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Arial Narrow"/>
              </a:rPr>
              <a:t>FUENTE: RESUMEN ESTADÍSTICO DE LOS CASOS ATENDIDOS EN LOS CEM - 2004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3726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l cuadro muestra claramente que las mujeres, de todas las edades, son las víctima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frecuentes de la viol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Fuente : Sistema de Registro de Casos de los CEM'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Elaboración : Oficina de Investigación y Registro PNCVF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Cuadro comparativo de NNA atendidos/as por violencia en los CEMS período 2002 a mayo 2005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El número de muje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 es 9 ve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alto que el d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ar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A la medida que crece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los varones son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os y, si l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son, no buscan ayu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Por el contrario, a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edida que crecen, 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ujeres son má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, o tienen má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isposición d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enunciar esta situa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562720" y="1676520"/>
          <a:ext cx="3200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7652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586320" y="1676520"/>
          <a:ext cx="197136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1676520"/>
                    <a:ext cx="1971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38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04920" y="533520"/>
            <a:ext cx="5715000" cy="5790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La visible re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s cifras 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ha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arones, 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comparación co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incremento d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sufren l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mujeres, a la med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crecen, es u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videncia de qu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tiene 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er con e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sequilibrio poder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n este caso, el p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 fuerza fís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os malos tratos son una de las formas de expresión de la violencia en las relaciones humanas</a:t>
            </a:r>
            <a:br>
              <a:rPr sz="2400"/>
            </a:b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a violencia, tiene a la base, desequilibrio de pod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jes de desequilibrio de poder dentro de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éner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Ambas categorías aluden a la organización jerárquica de la familia (verticalidad, obediencia, respeto, castig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Potencial de violencia en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Géner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 Narrow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l término </a:t>
            </a:r>
            <a:r>
              <a:rPr b="1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género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 abarca el conjunto de características, de oportunidades y de expectativas que un grupo social asigna a las personas y que éstas asumen como propio, basándose en su sexo.  Es una construcción social que varía de un grupo social a otro y de una época a otra.  Se construye a través de procesos sociales de comunicación y a través de manejos de poder y es transmitido a través de formas sutiles en los procesos de crianz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el género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</a:rPr>
              <a:t>La diferenciación de género se expresa en determinados roles que la sociedad asigna a las persona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desde que nacen según sean varones o mujere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ste proceso de asignación de roles, va acompañado por un proceso simultáneo de </a:t>
            </a:r>
            <a:r>
              <a:rPr b="1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valoración diferenciada entre unos roles y otro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(unos roles se valoran positivamente otros no o no en la misma medida), en consecuencia, lleva a la subordinación de unos grupos frente a otros, dentro de la sociedad.  Aquellas personas</a:t>
            </a:r>
            <a:r>
              <a:rPr b="0" lang="es-ES" sz="2800" spc="-1" strike="noStrike">
                <a:solidFill>
                  <a:srgbClr val="40458c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a quienes se les asigna los roles más valorados socialmente, se encuentran en posición de ventaja y poder frente a aquellas personas a quienes se les asigna los roles menos valorados en la socie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307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Tradicionalmente, los roles que se asignan a 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varones han sido más valorados socialmente y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consecuencia, las mujeres quedan ubicadas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una posición de subordinación en relación c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sto se expresa en la familia a través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visualización del varón como el JEFE de famil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Se espera entonces que el varón imponga la disciplina y el orden al interior de la misma y que el resto de los miembros acepte esa situ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3:48:04Z</dcterms:created>
  <dc:creator>Enrique Chaux</dc:creator>
  <dc:description/>
  <dc:language>en-US</dc:language>
  <cp:lastModifiedBy>marlene</cp:lastModifiedBy>
  <dcterms:modified xsi:type="dcterms:W3CDTF">2005-12-05T15:25:21Z</dcterms:modified>
  <cp:revision>126</cp:revision>
  <dc:subject/>
  <dc:title>Understanding violence  as it develops: Conflicts and aggression among urban children in Colombi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5195166</vt:r8>
  </property>
  <property fmtid="{D5CDD505-2E9C-101B-9397-08002B2CF9AE}" pid="3" name="_AuthorEmail">
    <vt:lpwstr>echaux@uniandes.edu.co</vt:lpwstr>
  </property>
  <property fmtid="{D5CDD505-2E9C-101B-9397-08002B2CF9AE}" pid="4" name="_AuthorEmailDisplayName">
    <vt:lpwstr>Enrique Chaux</vt:lpwstr>
  </property>
  <property fmtid="{D5CDD505-2E9C-101B-9397-08002B2CF9AE}" pid="5" name="_EmailSubject">
    <vt:lpwstr>Chaux Agresion reactiva y proactiva CIFE oct 2002.ppt</vt:lpwstr>
  </property>
  <property fmtid="{D5CDD505-2E9C-101B-9397-08002B2CF9AE}" pid="6" name="_ReviewingToolsShownOnce">
    <vt:lpwstr/>
  </property>
</Properties>
</file>